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F8C-2D91-4E1E-896D-04DFBE57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DE2-9C46-4E44-A594-23F714E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DAF-8195-46DD-A586-C9D6A361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224-0C03-4662-947C-4B47C8CF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4DC-3246-4CAD-845C-7DCF42FF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014-7F95-403C-AF6D-54C1DA0A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7DC-45B4-4DC8-84B7-3A01AB6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319-5CE3-4B18-A930-CA21A53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14C-36E2-45E1-96A7-20EB8B0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DB-9502-4DAC-BB3C-D212F90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EDF-A9E4-495C-9DE3-B6D8CB8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5A2-7985-435F-BA2C-E4611D8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34B3-6362-40A8-827B-09779C309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ol.yorku.ca/" TargetMode="External"/><Relationship Id="rId2" Type="http://schemas.openxmlformats.org/officeDocument/2006/relationships/hyperlink" Target="http://www.biol.yorku.ca/index.php?option=com_content&amp;view=category&amp;layout=blog&amp;id=9&amp;Itemid=9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ology-nation.com/Biology_by_Cours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of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ginning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ginning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ous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onous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ymphatic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a-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website for creating or finding flashcards for revie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s to enhance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medicine involving use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echnology and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a university near yo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.yorku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divisions in bi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ol.yorku.ca/index.php?option=com_content&amp;view=category&amp;layout=blog&amp;id=9&amp;Itemid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re complete li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iology-nation.com/Biology_by_Cours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y of robots to enhance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of medicine involving use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echnology and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 and it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mind and its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chang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nim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share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clav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loc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d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changing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anim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 system based on share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the clav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system based on loc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in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1-09-08T14:34:42Z</dcterms:modified>
  <cp:revision>24</cp:revision>
  <dc:subject/>
  <dc:title>Biology Disciplines</dc:title>
</cp:coreProperties>
</file>